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A6CD-7F41-433B-A8D8-73FDBE93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E827-D34F-42CC-A12F-A9AE9C53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21B-B5DD-4C48-A0DB-71E104BC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C67-B8F4-49A4-B8A2-B1EC4C59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B374-55C6-4A99-B67E-32832F03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187A-DBD0-4470-985A-A1AB689E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EFA5-45DC-404B-8A99-3D30D1F4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238A-76D8-4CE7-B9A4-2BB9D99E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83C8-E4D2-4686-A97B-7428021E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F75D-F0A5-4819-BBAF-57F1E8E1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6992-3665-40EA-9119-A3877D23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430-3BE9-4176-AC34-3FEBCA7B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95F1-F85A-4B97-9959-1739AA09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D82D-E7EC-43D4-AB4B-17349AE0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A30A-DC42-4AB7-9DB4-C0A5114A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4510-5ADD-4B36-8059-4B60855E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A57A-B430-4DEE-BD76-A6275344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8D88-4971-49AD-865B-617ED46E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0108-0351-4517-97F3-7EB9D9A1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5ECD-2128-41DC-967D-EF540930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C081-2ED3-4CC3-A435-A5ECF6EF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D012-017E-412B-A80B-FA2D1A25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CB0-AF38-4D10-9316-2E033452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334-3E43-4BB1-A8A3-6F3BEC0C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999F-0B95-4E11-8191-6AE3337BC98C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16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0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1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2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3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3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4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0A50-C517-418C-9A71-5B97CF179BC0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ecff"/>
                </a:solidFill>
                <a:latin typeface="Arial"/>
              </a:rPr>
              <a:t>LA EDAD MEDIA: SOCIEDAD Y CULTURA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35720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Verdana"/>
              </a:rPr>
              <a:t>SOCIEDA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uralización de Europa occidental a partir del s.III, durante el Imperio  Roman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La población abandona las ciudades y se establece en el camp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Desaparición del comercio, no circula moned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Los ciudadanos ricos viven en villas dentro de grandes latifundios (finca rústica de gran extensión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iglos V al VIII: invasiones bárbaras (suevos, vándalos, alanos y visigodo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iglo VIII: nacimiento de los feudos (latifundios gobernados por los nobles, la Iglesia o el rey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ecff"/>
                </a:solidFill>
                <a:latin typeface="Arial"/>
              </a:rPr>
              <a:t>LA EDAD MEDIA: SOCIEDAD Y CULTUR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Nuevo sistema económico: el </a:t>
            </a:r>
            <a:r>
              <a:rPr b="0" i="1" lang="es-ES" sz="1800" spc="-1" strike="noStrike">
                <a:solidFill>
                  <a:srgbClr val="ffffff"/>
                </a:solidFill>
                <a:latin typeface="Verdana"/>
              </a:rPr>
              <a:t>feudalismo 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(posesión y trabajo de la tierr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Los nobles se hacen con el control de las tierras: como pago del rey por sus servicios (a cambio de los soldados que aportan para la guerra) o por la protección que dan a los campesinos que les va convirtiendo, poco a poco, en vasallos de estos nobl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Composición de la sociedad medieval: estratos: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Verdana"/>
              </a:rPr>
              <a:t>nobleza 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guerrera (rey, señores feudales –nobles-, caballeros);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Verdana"/>
              </a:rPr>
              <a:t>eclesiásticos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(cardenales, arzobispos, obispos, abades, monjes y clérigos);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Verdana"/>
              </a:rPr>
              <a:t>pueblo llano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(campesinos en su mayorí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Los monjes son los depositarios de la cultura, se dedican a rezar y el trabajo, entre otros el de copiar e ilustrar los libros (códice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la-sociedad-edad-media"/>
          <p:cNvPicPr/>
          <p:nvPr/>
        </p:nvPicPr>
        <p:blipFill>
          <a:blip r:embed="rId1"/>
          <a:stretch/>
        </p:blipFill>
        <p:spPr>
          <a:xfrm>
            <a:off x="898560" y="593640"/>
            <a:ext cx="7638840" cy="5396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ecff"/>
                </a:solidFill>
                <a:latin typeface="Arial"/>
              </a:rPr>
              <a:t>ECONOMÍA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La invasión de los pueblos germánicos provocó la casi </a:t>
            </a:r>
            <a:r>
              <a:rPr b="0" i="1" lang="es-ES" sz="1600" spc="-1" strike="noStrike" u="sng">
                <a:solidFill>
                  <a:srgbClr val="ffffff"/>
                </a:solidFill>
                <a:uFillTx/>
                <a:latin typeface="Verdana"/>
              </a:rPr>
              <a:t> desaparición del comercio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Imposibilidad de intercambiar producto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Los feudos tienen  que producir todo lo necesario para sobrevivir; se inicia el autoabastecimiento (los campesinos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fabricaban sus casas, cortaban leña, fabricaban sus herramientas… las mujeres de los campesinos hilaban, tejían, confeccionaban los vestidos…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n todos los feudos hay personas que se dedican a otros oficios y trabajan para el señor (cocineros, panaderos, canteros</a:t>
            </a:r>
            <a:r>
              <a:rPr b="0" lang="es-ES" sz="1600" spc="-1" strike="noStrike" u="sng">
                <a:solidFill>
                  <a:srgbClr val="ffffff"/>
                </a:solidFill>
                <a:uFillTx/>
                <a:latin typeface="Verdana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músicos, herreros…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La actividad económica fundamental es la agricultura (cereales: trigo, centeno y cebada; legumbres: judías, garbanzos, etc.  y la ganadería.</a:t>
            </a:r>
            <a:br>
              <a:rPr sz="1600"/>
            </a:br>
            <a:br>
              <a:rPr sz="1200"/>
            </a:b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ecff"/>
                </a:solidFill>
                <a:latin typeface="Arial"/>
              </a:rPr>
              <a:t>CONSTRUCCIONES MÁS IMPORTANTES DE LA ÉPOCA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Los primeros castillos que se construyeron eran de madera y consistían en una torre con una empalizada alrededor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Se erigían en lugares elevados para defenderlos mejor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Si estaban en terreno llano se construía un foso alrededor que se llenaba de agua para facilitar la defensa del castillo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lementos comunes de los castillos: murallas con torres almenadas; puerta de entrada defendida con torres y puente levadizo; en el centro del castillo se encuentra la torre del homenaje, donde vive el señor feudal con su familia; entre las murallas hay un espacio para recoger a los campesino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15" descr="Jadraque"/>
          <p:cNvPicPr/>
          <p:nvPr/>
        </p:nvPicPr>
        <p:blipFill>
          <a:blip r:embed="rId1"/>
          <a:stretch/>
        </p:blipFill>
        <p:spPr>
          <a:xfrm>
            <a:off x="900000" y="3357720"/>
            <a:ext cx="7632720" cy="3252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ecff"/>
                </a:solidFill>
                <a:latin typeface="Arial"/>
              </a:rPr>
              <a:t>LA RELIGIÓN EN LA EDAD MEDIA</a:t>
            </a:r>
            <a:br>
              <a:rPr sz="2000"/>
            </a:br>
            <a:r>
              <a:rPr b="1" i="1" lang="es-ES" sz="2000" spc="-1" strike="noStrike">
                <a:solidFill>
                  <a:srgbClr val="ccecff"/>
                </a:solidFill>
                <a:latin typeface="Arial"/>
              </a:rPr>
              <a:t>LAS IGLESIA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l imperio romano se convierte al cristianismo en los siglos II y IV y esta religión se va a convertir en una importante fuerza civilizador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nvasión del Islam en el año 711. Los cristianos se repliegan hacia el norte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n el año 720 Asturias se erigió en reino gobernado por Pelayo, tras la batalla de Covadong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Durante el S. IX los cristianos van repoblando las zonas del Duero y del Ebro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n el S.XI el emirato de Córdoba se desintegra y aparecen los reinos de taifas, momento de debilidad que favorecerá la expansión económica y geográfica de los cristianos en la Península; avanzan hasta Extremadura y Castilla la Manch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5" descr="Arquitectura románica: Cabecera de San Vicente de Ávila"/>
          <p:cNvPicPr/>
          <p:nvPr/>
        </p:nvPicPr>
        <p:blipFill>
          <a:blip r:embed="rId1"/>
          <a:stretch/>
        </p:blipFill>
        <p:spPr>
          <a:xfrm>
            <a:off x="5076720" y="1846440"/>
            <a:ext cx="3048120" cy="4122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ecff"/>
                </a:solidFill>
                <a:latin typeface="Arial"/>
              </a:rPr>
              <a:t>LA RELIGIÓN EN LA EDAD MEDIA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ntre el año 1103 y 1115 el Cid Campeador ayuda a los castellanos y aragoneses a conquistar Valencia para el rey Pedro I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La edad media es una época marcada por el </a:t>
            </a:r>
            <a:r>
              <a:rPr b="1" i="1" lang="es-ES" sz="1400" spc="-1" strike="noStrike">
                <a:solidFill>
                  <a:srgbClr val="ffffff"/>
                </a:solidFill>
                <a:latin typeface="Verdana"/>
              </a:rPr>
              <a:t>Teocentrismo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(Dios es el centro de interés del ser humano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Las iglesias son construcciones de piedr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Templos de poca altura, con pocos huecos en las paredes, son lugares oscuro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Son los edificios artísticos más importantes de la época: arquitectura, escultura, pintura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Se representa la Biblia en la piedra para dar a conocer las historias sagradas a campesinos y nobles que no saben leer ni escribir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5" descr="evangeliario"/>
          <p:cNvPicPr/>
          <p:nvPr/>
        </p:nvPicPr>
        <p:blipFill>
          <a:blip r:embed="rId1"/>
          <a:stretch/>
        </p:blipFill>
        <p:spPr>
          <a:xfrm>
            <a:off x="4444920" y="2073240"/>
            <a:ext cx="4218120" cy="3237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7:05:16Z</dcterms:created>
  <dc:creator>Antonio</dc:creator>
  <dc:description/>
  <dc:language>en-US</dc:language>
  <cp:lastModifiedBy>Jara</cp:lastModifiedBy>
  <dcterms:modified xsi:type="dcterms:W3CDTF">2009-11-06T16:12:17Z</dcterms:modified>
  <cp:revision>5</cp:revision>
  <dc:subject/>
  <dc:title>LA EDAD MEDIA: SOCIEDAD Y CULTURA</dc:title>
</cp:coreProperties>
</file>