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571-6734-41CF-8C9E-013D7C35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E8F-6841-40F2-ACC3-0216B9D4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D3D-A4F2-4735-93FC-01674E76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BE8-A764-465C-997B-D49A438B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FFD4-0535-44AB-86B4-BF6B9CF6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D178-0432-43D2-B533-33144366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E1C3-155D-4F81-BD38-FACB410D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72AC-6497-4661-BC5D-F20B1D44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02F1-BE90-4B30-BD7D-D5CAF0D2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9A32-545E-4FBB-9064-C577C2EA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1B6D-EE74-41BA-8DBD-7D25E38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027-A4CC-459F-AB49-7C5292DC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7B85-FBF7-4B54-849C-FE8D681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D91C-3C3D-4A89-8E75-0B31B29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4BC9-72D2-463B-8419-3751BEE3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BF72-C7D6-489B-BF7A-169D6D29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290F-8C1D-4323-8F93-12B9D83B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BD1-E8C1-4D4B-B9D8-45A7C925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045-731F-4C0A-8516-1075C8E6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17D-48FB-41C2-9F26-69068DE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2E0-E066-436E-996C-B0C7689E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C15-CB61-4909-A026-A8951F11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9AD-E64D-4C9B-A077-6BFDF17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26B-9BD5-4916-B095-65C5DB3B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812C-9298-4BF7-B8E4-D5755D55996E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6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0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3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EE2D-18A7-4922-85DF-65E6F7F57A35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LA EDAD MEDIA: SOCIEDAD Y CULTUR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357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SOCIEDA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uralización de Europa occidental a partir del s.III, durante el Imperio  Roma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a población abandona las ciudades y se establece en el camp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esaparición del comercio, no circula moned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os ciudadanos ricos viven en villas dentro de grandes latifundios (finca rústica de gran extensió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iglos V al VIII: invasiones bárbaras (suevos, vándalos, alanos y visigodo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iglo VIII: nacimiento de los feudos (latifundios gobernados por los nobles, la Iglesia o el rey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ecff"/>
                </a:solidFill>
                <a:latin typeface="Arial"/>
              </a:rPr>
              <a:t>LA EDAD MEDIA: SOCIEDAD Y CULTUR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uevo sistema económico: el </a:t>
            </a:r>
            <a:r>
              <a:rPr b="0" i="1" lang="es-ES" sz="1800" spc="-1" strike="noStrike">
                <a:solidFill>
                  <a:srgbClr val="ffffff"/>
                </a:solidFill>
                <a:latin typeface="Verdana"/>
              </a:rPr>
              <a:t>feudalismo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(posesión y trabajo de la tierr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os nobles se hacen con el control de las tierras: como pago del rey por sus servicios (a cambio de los soldados que aportan para la guerra) o por la protección que dan a los campesinos que les va convirtiendo, poco a poco, en vasallos de estos nob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omposición de la sociedad medieval: estratos: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Verdana"/>
              </a:rPr>
              <a:t>nobleza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guerrera (rey, señores feudales –nobles-, caballeros);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Verdana"/>
              </a:rPr>
              <a:t>eclesiástico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(cardenales, arzobispos, obispos, abades, monjes y clérigos);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Verdana"/>
              </a:rPr>
              <a:t>pueblo llano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(campesinos en su mayorí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os monjes son los depositarios de la cultura, se dedican a rezar y el trabajo, entre otros el de copiar e ilustrar los libros (códic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la-sociedad-edad-media"/>
          <p:cNvPicPr/>
          <p:nvPr/>
        </p:nvPicPr>
        <p:blipFill>
          <a:blip r:embed="rId1"/>
          <a:stretch/>
        </p:blipFill>
        <p:spPr>
          <a:xfrm>
            <a:off x="898560" y="593640"/>
            <a:ext cx="7638840" cy="5396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ECONOMÍ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a invasión de los pueblos germánicos provocó la casi </a:t>
            </a:r>
            <a:r>
              <a:rPr b="0" i="1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 desaparición del comerci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Imposibilidad de intercambiar producto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os feudos tienen  que producir todo lo necesario para sobrevivir; se inicia el autoabastecimiento (los campesinos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fabricaban sus casas, cortaban leña, fabricaban sus herramientas… las mujeres de los campesinos hilaban, tejían, confeccionaban los vestidos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n todos los feudos hay personas que se dedican a otros oficios y trabajan para el señor (cocineros, panaderos, canteros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músicos, herreros…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a actividad económica fundamental es la agricultura (cereales: trigo, centeno y cebada; legumbres: judías, garbanzos, etc.  y la ganadería.</a:t>
            </a:r>
            <a:br>
              <a:rPr sz="1600"/>
            </a:br>
            <a:br>
              <a:rPr sz="1200"/>
            </a:b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CONSTRUCCIONES MÁS IMPORTANTES DE LA ÉPOC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os primeros castillos que se construyeron eran de madera y consistían en una torre con una empalizada alrededo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e erigían en lugares elevados para defenderlos mejo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i estaban en terreno llano se construía un foso alrededor que se llenaba de agua para facilitar la defensa del castill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lementos comunes de los castillos: murallas con torres almenadas; puerta de entrada defendida con torres y puente levadizo; en el centro del castillo se encuentra la torre del homenaje, donde vive el señor feudal con su familia; entre las murallas hay un espacio para recoger a los campesin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5" descr="Jadraque"/>
          <p:cNvPicPr/>
          <p:nvPr/>
        </p:nvPicPr>
        <p:blipFill>
          <a:blip r:embed="rId1"/>
          <a:stretch/>
        </p:blipFill>
        <p:spPr>
          <a:xfrm>
            <a:off x="900000" y="3357720"/>
            <a:ext cx="7632720" cy="3252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ecff"/>
                </a:solidFill>
                <a:latin typeface="Arial"/>
              </a:rPr>
              <a:t>LA RELIGIÓN EN LA EDAD MEDIA</a:t>
            </a:r>
            <a:br>
              <a:rPr sz="2000"/>
            </a:br>
            <a:r>
              <a:rPr b="1" i="1" lang="es-ES" sz="2000" spc="-1" strike="noStrike">
                <a:solidFill>
                  <a:srgbClr val="ccecff"/>
                </a:solidFill>
                <a:latin typeface="Arial"/>
              </a:rPr>
              <a:t>LAS IGLESIA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l imperio romano se convierte al cristianismo en los siglos II y IV y esta religión se va a convertir en una importante fuerza civilizador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nvasión del Islam en el año 711. Los cristianos se repliegan hacia el nort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 el año 720 Asturias se erigió en reino gobernado por Pelayo, tras la batalla de Covadong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Durante el S. IX los cristianos van repoblando las zonas del Duero y del Ebr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 el S.XI el emirato de Córdoba se desintegra y aparecen los reinos de taifas, momento de debilidad que favorecerá la expansión económica y geográfica de los cristianos en la Península; avanzan hasta Extremadura y Castilla la Manch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Arquitectura románica: Cabecera de San Vicente de Ávila"/>
          <p:cNvPicPr/>
          <p:nvPr/>
        </p:nvPicPr>
        <p:blipFill>
          <a:blip r:embed="rId1"/>
          <a:stretch/>
        </p:blipFill>
        <p:spPr>
          <a:xfrm>
            <a:off x="5076720" y="1846440"/>
            <a:ext cx="3048120" cy="4122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LA RELIGIÓN EN LA EDAD MEDI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tre el año 1103 y 1115 el Cid Campeador ayuda a los castellanos y aragoneses a conquistar Valencia para el rey Pedro 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a edad media es una época marcada por el </a:t>
            </a:r>
            <a:r>
              <a:rPr b="1" i="1" lang="es-ES" sz="1400" spc="-1" strike="noStrike">
                <a:solidFill>
                  <a:srgbClr val="ffffff"/>
                </a:solidFill>
                <a:latin typeface="Verdana"/>
              </a:rPr>
              <a:t>Teocentrismo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(Dios es el centro de interés del ser human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as iglesias son construcciones de piedr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Templos de poca altura, con pocos huecos en las paredes, son lugares oscur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on los edificios artísticos más importantes de la época: arquitectura, escultura, pintura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e representa la Biblia en la piedra para dar a conocer las historias sagradas a campesinos y nobles que no saben leer ni escribi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5" descr="evangeliario"/>
          <p:cNvPicPr/>
          <p:nvPr/>
        </p:nvPicPr>
        <p:blipFill>
          <a:blip r:embed="rId1"/>
          <a:stretch/>
        </p:blipFill>
        <p:spPr>
          <a:xfrm>
            <a:off x="4444920" y="2073240"/>
            <a:ext cx="4218120" cy="3237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7:05:16Z</dcterms:created>
  <dc:creator>Antonio</dc:creator>
  <dc:description/>
  <dc:language>en-US</dc:language>
  <cp:lastModifiedBy>Jara</cp:lastModifiedBy>
  <dcterms:modified xsi:type="dcterms:W3CDTF">2009-11-06T16:12:17Z</dcterms:modified>
  <cp:revision>5</cp:revision>
  <dc:subject/>
  <dc:title>LA EDAD MEDIA: SOCIEDAD Y CULTURA</dc:title>
</cp:coreProperties>
</file>